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84110"/>
        <c:axId val="8925074"/>
      </c:barChart>
      <c:catAx>
        <c:axId val="99584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5074"/>
        <c:crosses val="autoZero"/>
        <c:auto val="1"/>
        <c:lblAlgn val="ctr"/>
        <c:lblOffset val="100"/>
        <c:noMultiLvlLbl val="0"/>
      </c:catAx>
      <c:valAx>
        <c:axId val="8925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84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C06-29CF-4CEE-BC56-20C58C27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5F9-283F-4C2C-B597-315ACCAA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A8E-4BD3-468F-84F2-60043BB2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3C4-DAC8-4067-B621-51B562A8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ADC-76B9-447E-85C7-D0782E88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335-4871-4FBB-9739-58165575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BA5-B17A-4265-B39B-DABD3D32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745-ABF4-4A49-AC28-4672BC1F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5E5-32D6-4E93-98C5-22BC4B00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C9D-3B8B-42A5-AD42-6CA0981D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B26-6475-422F-A296-639D01FA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A45-FB80-4390-A1BD-9767F2BB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6B5D9-D25D-44F5-B7C9-717B6B7FC0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