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440811"/>
        <c:axId val="70368487"/>
      </c:barChart>
      <c:catAx>
        <c:axId val="374408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68487"/>
        <c:crosses val="autoZero"/>
        <c:auto val="1"/>
        <c:lblAlgn val="ctr"/>
        <c:lblOffset val="100"/>
        <c:noMultiLvlLbl val="0"/>
      </c:catAx>
      <c:valAx>
        <c:axId val="703684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408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056-DCFA-4E22-B1E5-4F1B7017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8BE0-8130-47FA-AFA5-6DC00291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455E-9A8A-454C-9D42-457A9D41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5D2F-C805-4378-B5C2-0E24DE3E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097D-1B29-44B4-89D0-C3812721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EA50-ED63-4645-9CA0-77B62B6C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9B76-3EFF-492D-B49A-DDB65794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7097-4F37-4E5F-8126-FC6BF6DA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E77D-BB99-49E1-ACA6-D1464F12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3571-8A8C-4FC4-A2A0-EA18F1F5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FACF-F3FB-42B1-8AFE-3CED355A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1045-9195-408F-A9F0-A955C60F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B9373-3D74-43CB-9A54-09DFBDDCEC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