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54091"/>
        <c:axId val="76069857"/>
      </c:barChart>
      <c:catAx>
        <c:axId val="64154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69857"/>
        <c:crosses val="autoZero"/>
        <c:auto val="1"/>
        <c:lblAlgn val="ctr"/>
        <c:lblOffset val="100"/>
        <c:noMultiLvlLbl val="0"/>
      </c:catAx>
      <c:valAx>
        <c:axId val="76069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54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BA8-9526-49C6-B441-AF7F9864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7FF-6AC8-4EC9-8694-68B069C3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A35-2571-4482-A260-37959532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589-1EC0-492E-95D9-02719407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FA1-8332-40EF-80F0-3675AB99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341-05FC-47B1-9E7B-E4EBFFEF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C85-7468-432C-8562-4788FD8C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9F4-5456-4C43-9B9F-DF00B250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FCD-EC65-4C5A-B169-D05CFE7B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049-F355-48DD-B816-9A15F849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569-82D6-4D64-928A-A8914FC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FD9-9838-4980-A78A-A0F8D3D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D3DEE-9888-404E-930D-C8D40B5E91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