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45874"/>
        <c:axId val="68258863"/>
      </c:barChart>
      <c:catAx>
        <c:axId val="61645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8863"/>
        <c:crosses val="autoZero"/>
        <c:auto val="1"/>
        <c:lblAlgn val="ctr"/>
        <c:lblOffset val="100"/>
        <c:noMultiLvlLbl val="0"/>
      </c:catAx>
      <c:valAx>
        <c:axId val="68258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45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00C-F73F-4A3C-B325-5B57C52D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54D-8357-43E5-A62A-3153D2CE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A09-2D4A-442A-8D6F-6CE11885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7B5-AB12-4A36-BCF3-1D775E07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B8C-AF9E-4DA1-8A79-0DF73536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6E7-F590-40A7-BBD2-878041C4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D06-453A-4849-BFC9-835868FA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BFD-91B5-45B4-A1B2-DD026E41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765-768C-44B2-8087-6C3806F1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EDD-1B0D-4845-81BB-E5E5B4FE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8C1-E08C-4E10-B208-769F9247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8D5-A28B-4339-9DF2-9DAEF045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E633F-9A59-4FEA-AFD6-6975996C33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