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136"/>
        <c:axId val="60625519"/>
      </c:barChart>
      <c:catAx>
        <c:axId val="579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25519"/>
        <c:crosses val="autoZero"/>
        <c:auto val="1"/>
        <c:lblAlgn val="ctr"/>
        <c:lblOffset val="100"/>
        <c:noMultiLvlLbl val="0"/>
      </c:catAx>
      <c:valAx>
        <c:axId val="60625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ABE-FF23-49B3-8589-A90F7408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4DD-EC4D-4480-A5B5-4CD2B171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8D0-EEA7-400A-857E-AEDE62A0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F80-A462-406A-A9A2-746BBC95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9C7-A91F-4A79-8E2B-AA73B308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F02-4519-4032-A13F-4E61CFD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EC0-C55D-4CC1-90A6-20BCB2BF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EAD-007E-4D7D-ADF0-D09915B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26D-424E-424A-AE72-A64EDA60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539-ABBA-40BA-9588-1C9C2E4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106-AB00-43F9-A51B-B86C759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8AE-05D7-4175-AC56-E1D26CA9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4386-45C3-4473-80F3-207BC3F293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