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65532"/>
        <c:axId val="74344759"/>
      </c:barChart>
      <c:catAx>
        <c:axId val="37165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4759"/>
        <c:crosses val="autoZero"/>
        <c:auto val="1"/>
        <c:lblAlgn val="ctr"/>
        <c:lblOffset val="100"/>
        <c:noMultiLvlLbl val="0"/>
      </c:catAx>
      <c:valAx>
        <c:axId val="74344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5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11E-83AF-4424-9D25-1CDF1A6A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AA9-2F50-4818-9D6A-6B63F53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A9B-5152-4DEA-A1E9-9BB218D7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F28-489E-4C4F-B465-B97E4FC0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A06-E6A8-4F20-9EB2-34907C4F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141-92C9-4BDF-8175-ECA256C0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EC9-A89E-4540-9F79-4C114F26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CAE-A544-4830-89C5-242BFFAB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6D6E-8D0A-4638-A0FF-6D3A4E9C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4D4-B4D3-4EE6-832C-089B4A0F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D68-4225-42DB-9AAF-EAB88F8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A10-D31D-41A5-B55E-56B61CF4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C3BB9-642C-4EAA-881C-73E82E9552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