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2175"/>
        <c:axId val="68828077"/>
      </c:barChart>
      <c:catAx>
        <c:axId val="2722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28077"/>
        <c:crosses val="autoZero"/>
        <c:auto val="1"/>
        <c:lblAlgn val="ctr"/>
        <c:lblOffset val="100"/>
        <c:noMultiLvlLbl val="0"/>
      </c:catAx>
      <c:valAx>
        <c:axId val="68828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2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1CB-EB7E-440E-9693-706EE295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D0E-0B33-42EF-8C04-ADA7471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563-392E-4C79-8112-35CC6E75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6D5-6DBD-4025-A184-DE37690B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AFD-F163-4966-A229-80C63ED5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F61-CAE2-49F9-90AD-2B72E867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7D0-1366-4E85-B388-B9D72997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0A1-0B9F-4B56-8ABE-537B8E2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13B-46B0-4509-A5FB-730A3A5B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B5D-8D5E-4B89-AF1E-73653D9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902-DFC7-44C1-B8D2-588ECAA1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31A-B4C0-4A85-94A5-FD86B5D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595E2-80C8-47BA-8636-9D42EDF35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