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60086"/>
        <c:axId val="24766173"/>
      </c:barChart>
      <c:catAx>
        <c:axId val="96360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66173"/>
        <c:crosses val="autoZero"/>
        <c:auto val="1"/>
        <c:lblAlgn val="ctr"/>
        <c:lblOffset val="100"/>
        <c:noMultiLvlLbl val="0"/>
      </c:catAx>
      <c:valAx>
        <c:axId val="24766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60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771-354B-470F-BB99-8E1FDCF5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E93-F049-48C9-89F1-3988F1E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B8D-B076-4C9A-931C-9EC02547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62E-EBBE-474E-9023-90C25B59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6FF-F9C9-4783-AF92-C7293BC2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815-3A7B-4427-8762-04E6D54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423-1AD6-4E8B-A31D-955648F2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30B-5D64-4C5B-A802-62AF80B1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4BE-C8BA-492B-A737-77C2D691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614-5EBD-4A79-93F6-A1737AF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D6A-20E1-4911-83C4-B6AE4E0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33E-35DA-4846-82B2-82EE9EF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7E826-DC2A-4F60-BE45-ACD110862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