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688679"/>
        <c:axId val="71057378"/>
      </c:barChart>
      <c:catAx>
        <c:axId val="606886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57378"/>
        <c:crosses val="autoZero"/>
        <c:auto val="1"/>
        <c:lblAlgn val="ctr"/>
        <c:lblOffset val="100"/>
        <c:noMultiLvlLbl val="0"/>
      </c:catAx>
      <c:valAx>
        <c:axId val="71057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886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27E2-9AFB-4D77-984A-C22499CD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618-DD48-495C-940A-1E445528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D80-1150-49FB-AFDC-CB3C17C8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65C-402D-424B-AC87-9A33686F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DCB-206C-49C0-89D8-55F79310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388-956D-4F09-BDC1-43FFCADB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D6F-58ED-4881-9400-9E414A07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DBCD-99FD-412B-9A7A-E87740D9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9114-D91C-46A5-9242-2DADD778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DC2F-83DD-4CA8-81E6-93940BCD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2A4B-8BF2-46DC-965C-C1C6E084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DE79-D166-4356-837D-76D3D1BD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00603F-1AA0-4037-B1C8-8CF2553CD7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