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361142"/>
        <c:axId val="64148330"/>
      </c:barChart>
      <c:catAx>
        <c:axId val="413611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148330"/>
        <c:crosses val="autoZero"/>
        <c:auto val="1"/>
        <c:lblAlgn val="ctr"/>
        <c:lblOffset val="100"/>
        <c:noMultiLvlLbl val="0"/>
      </c:catAx>
      <c:valAx>
        <c:axId val="641483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3611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BAEE-3EDE-449D-8896-FCFF6B690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8E46-2F92-4AC4-8AE3-6DA872A03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0926-4974-4349-90D7-12CC22ECB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4D18-42BD-4A41-B5E4-ADFF646C1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5455-5FD0-4413-9EC7-D2CA61D37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886B-CEB4-4658-952D-88C7FFA8D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6B42-68F4-425D-96D8-ABB673A0D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4470-E962-480A-84EF-BAFBD02F7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06E6-DAEA-4689-8F4F-A658194B9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F045-096A-4512-9FCA-7D98105D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93B9-AFEE-4EE3-84A5-037FE17B7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90DA-9123-4BEC-9059-1049053F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B5725B-FA63-476F-B310-F28A05065DB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