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95957E-C5C4-44C8-9280-536D0E2D7B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0574B4-3BE3-46F3-97D4-8CAD269C8C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35E215-5B9F-4130-B2BF-34A4216BB2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109CF0-5F17-4CF1-9088-70257B3A0A4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C00B8A-8816-42D5-B61C-27558BAE7FB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82EA0E-55FE-47C2-BF2A-157CCC6A13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E54405-68A8-44FF-8482-5F2962F5E0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27A343-1097-43DD-9F59-C3E3545EEC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4D21F8-171A-4E0B-9047-836FCF122B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5F5216-642B-406A-92F7-8620779666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E7E4C2-70C7-4AE9-9EC3-0D59E63DEF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B43823-1B5C-411B-8FE4-8F3517E617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54B69-6EF3-4B43-A38D-8F2DBB5482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2153400">
            <a:off x="4414320" y="4398840"/>
            <a:ext cx="1204920" cy="208080"/>
          </a:xfrm>
          <a:custGeom>
            <a:avLst/>
            <a:gdLst>
              <a:gd name="textAreaLeft" fmla="*/ 188280 w 1204920"/>
              <a:gd name="textAreaRight" fmla="*/ 1054440 w 1204920"/>
              <a:gd name="textAreaTop" fmla="*/ 51840 h 208080"/>
              <a:gd name="textAreaBottom" fmla="*/ 156240 h 20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" name=""/>
          <p:cNvGrpSpPr/>
          <p:nvPr/>
        </p:nvGrpSpPr>
        <p:grpSpPr>
          <a:xfrm>
            <a:off x="5653080" y="4800600"/>
            <a:ext cx="312840" cy="495360"/>
            <a:chOff x="5653080" y="4800600"/>
            <a:chExt cx="312840" cy="495360"/>
          </a:xfrm>
        </p:grpSpPr>
        <p:sp>
          <p:nvSpPr>
            <p:cNvPr id="42" name=""/>
            <p:cNvSpPr/>
            <p:nvPr/>
          </p:nvSpPr>
          <p:spPr>
            <a:xfrm>
              <a:off x="5731200" y="480060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809320" y="494208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5691600" y="51544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809320" y="51544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5653080" y="50482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549760" y="3689280"/>
            <a:ext cx="295560" cy="5875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424480" y="368928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715000" y="3537000"/>
            <a:ext cx="838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 keys  (old ZSK and KSK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781680" y="570060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575400" y="626436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ld 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567480" y="451152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605640" y="464832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962760" y="514188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550200" y="5178600"/>
            <a:ext cx="11253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6997680" y="5391000"/>
            <a:ext cx="115920" cy="28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635960" y="32018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61160" y="341460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631280" y="385776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012160" y="382104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7962840" y="128124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7639200" y="22827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One Max Zone TT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701120" y="1219320"/>
            <a:ext cx="939600" cy="1733400"/>
          </a:xfrm>
          <a:custGeom>
            <a:avLst/>
            <a:gdLst>
              <a:gd name="textAreaLeft" fmla="*/ 45720 w 939600"/>
              <a:gd name="textAreaRight" fmla="*/ 893880 w 939600"/>
              <a:gd name="textAreaTop" fmla="*/ 45720 h 1733400"/>
              <a:gd name="textAreaBottom" fmla="*/ 1687680 h 1733400"/>
            </a:gdLst>
            <a:ahLst/>
            <a:rect l="textAreaLeft" t="textAreaTop" r="textAreaRight" b="textAreaBottom"/>
            <a:pathLst>
              <a:path w="21600" h="39841">
                <a:moveTo>
                  <a:pt x="3600" y="0"/>
                </a:moveTo>
                <a:arcTo wR="3600" hR="3600" stAng="16200000" swAng="-5400000"/>
                <a:lnTo>
                  <a:pt x="0" y="36241"/>
                </a:lnTo>
                <a:arcTo wR="3600" hR="3600" stAng="10800000" swAng="-5400000"/>
                <a:lnTo>
                  <a:pt x="18000" y="398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701120" y="2705040"/>
            <a:ext cx="9396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013600" y="270504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56320" y="1539720"/>
            <a:ext cx="112680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94120" y="17017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087880" y="2182680"/>
            <a:ext cx="57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764240" y="2219400"/>
            <a:ext cx="1112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5195880" y="2921040"/>
            <a:ext cx="312840" cy="495360"/>
            <a:chOff x="5195880" y="2921040"/>
            <a:chExt cx="312840" cy="495360"/>
          </a:xfrm>
        </p:grpSpPr>
        <p:sp>
          <p:nvSpPr>
            <p:cNvPr id="71" name=""/>
            <p:cNvSpPr/>
            <p:nvPr/>
          </p:nvSpPr>
          <p:spPr>
            <a:xfrm>
              <a:off x="5274000" y="292104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352120" y="306252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5234400" y="327492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352120" y="327492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195880" y="316872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2925720" y="161280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951280" y="180036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921040" y="228132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263760" y="2244600"/>
            <a:ext cx="55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5"/>
          <a:stretch/>
        </p:blipFill>
        <p:spPr>
          <a:xfrm>
            <a:off x="1865160" y="82404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554120" y="18511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One Max Zone TT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603440" y="762120"/>
            <a:ext cx="939600" cy="1733400"/>
          </a:xfrm>
          <a:custGeom>
            <a:avLst/>
            <a:gdLst>
              <a:gd name="textAreaLeft" fmla="*/ 45720 w 939600"/>
              <a:gd name="textAreaRight" fmla="*/ 893880 w 939600"/>
              <a:gd name="textAreaTop" fmla="*/ 45720 h 1733400"/>
              <a:gd name="textAreaBottom" fmla="*/ 1687680 h 1733400"/>
            </a:gdLst>
            <a:ahLst/>
            <a:rect l="textAreaLeft" t="textAreaTop" r="textAreaRight" b="textAreaBottom"/>
            <a:pathLst>
              <a:path w="21600" h="39841">
                <a:moveTo>
                  <a:pt x="3600" y="0"/>
                </a:moveTo>
                <a:arcTo wR="3600" hR="3600" stAng="16200000" swAng="-5400000"/>
                <a:lnTo>
                  <a:pt x="0" y="36241"/>
                </a:lnTo>
                <a:arcTo wR="3600" hR="3600" stAng="10800000" swAng="-5400000"/>
                <a:lnTo>
                  <a:pt x="18000" y="398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616040" y="2247840"/>
            <a:ext cx="9399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897200" y="223200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1219320" y="3060720"/>
            <a:ext cx="312480" cy="495360"/>
            <a:chOff x="1219320" y="3060720"/>
            <a:chExt cx="312480" cy="495360"/>
          </a:xfrm>
        </p:grpSpPr>
        <p:sp>
          <p:nvSpPr>
            <p:cNvPr id="86" name=""/>
            <p:cNvSpPr/>
            <p:nvPr/>
          </p:nvSpPr>
          <p:spPr>
            <a:xfrm>
              <a:off x="1297440" y="306072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375560" y="32022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>
              <a:off x="1257840" y="3414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375560" y="3414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219320" y="33084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"/>
          <p:cNvSpPr/>
          <p:nvPr/>
        </p:nvSpPr>
        <p:spPr>
          <a:xfrm>
            <a:off x="1909800" y="30574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947960" y="311940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6"/>
          <a:stretch/>
        </p:blipFill>
        <p:spPr>
          <a:xfrm>
            <a:off x="3757680" y="312408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7"/>
          <a:stretch/>
        </p:blipFill>
        <p:spPr>
          <a:xfrm>
            <a:off x="3995640" y="328464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033720" y="3429000"/>
            <a:ext cx="67644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909800" y="373680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246400" y="3700440"/>
            <a:ext cx="61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616040" y="3279600"/>
            <a:ext cx="24912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703840" y="4317840"/>
            <a:ext cx="88920" cy="40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 flipV="1">
            <a:off x="5538960" y="3238200"/>
            <a:ext cx="885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5348160" y="2413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265640" y="3708360"/>
            <a:ext cx="1387440" cy="1041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4332240" y="3073320"/>
            <a:ext cx="876240" cy="31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4062240" y="2374920"/>
            <a:ext cx="739800" cy="736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2529000" y="19051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708360" y="2895480"/>
            <a:ext cx="611280" cy="10670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958000" y="4876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 flipV="1">
            <a:off x="7010280" y="4343040"/>
            <a:ext cx="763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Document"/>
          <p:cNvSpPr/>
          <p:nvPr/>
        </p:nvSpPr>
        <p:spPr>
          <a:xfrm>
            <a:off x="3889440" y="4876920"/>
            <a:ext cx="563400" cy="5490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836880" y="491508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4357800" y="3251160"/>
            <a:ext cx="838080" cy="1612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4510080" y="4876560"/>
            <a:ext cx="11430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6033600" y="1905120"/>
            <a:ext cx="1600200" cy="304560"/>
          </a:xfrm>
          <a:custGeom>
            <a:avLst/>
            <a:gdLst>
              <a:gd name="textAreaLeft" fmla="*/ 249840 w 1600200"/>
              <a:gd name="textAreaRight" fmla="*/ 1400400 w 160020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2894040" y="4876920"/>
            <a:ext cx="312840" cy="501480"/>
            <a:chOff x="2894040" y="4876920"/>
            <a:chExt cx="312840" cy="501480"/>
          </a:xfrm>
        </p:grpSpPr>
        <p:sp>
          <p:nvSpPr>
            <p:cNvPr id="115" name=""/>
            <p:cNvSpPr/>
            <p:nvPr/>
          </p:nvSpPr>
          <p:spPr>
            <a:xfrm>
              <a:off x="2972160" y="487692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050280" y="50202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2932560" y="52351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050280" y="52351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894040" y="51274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1539720" y="58006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577880" y="59371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884240" y="6431040"/>
            <a:ext cx="55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22440" y="6467400"/>
            <a:ext cx="11253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198600" y="3962520"/>
            <a:ext cx="739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3274920" y="5029200"/>
            <a:ext cx="549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2487240" y="5232240"/>
            <a:ext cx="431640" cy="571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56120" y="576252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081320" y="596916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038480" y="6424560"/>
            <a:ext cx="112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368960" y="6388200"/>
            <a:ext cx="61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678040" y="6006960"/>
            <a:ext cx="355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2286000"/>
            <a:ext cx="760320" cy="3886200"/>
          </a:xfrm>
          <a:custGeom>
            <a:avLst/>
            <a:gdLst>
              <a:gd name="textAreaLeft" fmla="*/ 101880 w 760320"/>
              <a:gd name="textAreaRight" fmla="*/ 658440 w 760320"/>
              <a:gd name="textAreaTop" fmla="*/ 779040 h 3886200"/>
              <a:gd name="textAreaBottom" fmla="*/ 2718360 h 3886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663" stAng="-5400000" swAng="-5400000"/>
                <a:lnTo>
                  <a:pt x="0" y="10777"/>
                </a:lnTo>
                <a:arcTo wR="21600" hR="8663" stAng="10800000" swAng="-2916158"/>
                <a:lnTo>
                  <a:pt x="14400" y="21105"/>
                </a:lnTo>
                <a:lnTo>
                  <a:pt x="21600" y="18383"/>
                </a:lnTo>
                <a:lnTo>
                  <a:pt x="14400" y="14671"/>
                </a:lnTo>
                <a:lnTo>
                  <a:pt x="14400" y="16831"/>
                </a:lnTo>
                <a:arcTo wR="21600" hR="8663" stAng="7883842" swAng="2746802"/>
                <a:lnTo>
                  <a:pt x="161" y="9720"/>
                </a:lnTo>
                <a:arcTo wR="21600" hR="8663" stAng="-10630644" swAng="5230644"/>
                <a:close/>
              </a:path>
              <a:path fill="darkenLess" w="21600" h="21600">
                <a:moveTo>
                  <a:pt x="21600" y="0"/>
                </a:moveTo>
                <a:arcTo wR="21600" hR="8663" stAng="-5400000" swAng="-5400000"/>
                <a:lnTo>
                  <a:pt x="0" y="8663"/>
                </a:lnTo>
                <a:arcTo wR="21600" hR="8663" stAng="10800000" swAng="-169356"/>
                <a:lnTo>
                  <a:pt x="161" y="9720"/>
                </a:lnTo>
                <a:arcTo wR="21600" hR="8663" stAng="-10630644" swAng="5230644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948120" y="386064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25960" y="297180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274320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27160" y="3657600"/>
            <a:ext cx="1295280" cy="30492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80880" y="763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SK Roll-Over – Pre-Publish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2209320" y="3581280"/>
            <a:ext cx="160020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09680" y="48769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3911760" y="825480"/>
            <a:ext cx="312480" cy="501840"/>
            <a:chOff x="3911760" y="825480"/>
            <a:chExt cx="312480" cy="501840"/>
          </a:xfrm>
        </p:grpSpPr>
        <p:sp>
          <p:nvSpPr>
            <p:cNvPr id="141" name=""/>
            <p:cNvSpPr/>
            <p:nvPr/>
          </p:nvSpPr>
          <p:spPr>
            <a:xfrm>
              <a:off x="3989880" y="825480"/>
              <a:ext cx="15588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068000" y="9687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3950280" y="11840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068000" y="11840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911760" y="10764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"/>
          <p:cNvSpPr/>
          <p:nvPr/>
        </p:nvSpPr>
        <p:spPr>
          <a:xfrm flipH="1">
            <a:off x="3479760" y="1041480"/>
            <a:ext cx="380880" cy="571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4216320" y="990720"/>
            <a:ext cx="55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Document"/>
          <p:cNvSpPr/>
          <p:nvPr/>
        </p:nvSpPr>
        <p:spPr>
          <a:xfrm>
            <a:off x="4778280" y="7621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737240" y="7873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Document"/>
          <p:cNvSpPr/>
          <p:nvPr/>
        </p:nvSpPr>
        <p:spPr>
          <a:xfrm>
            <a:off x="5405400" y="7621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351400" y="81288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Document"/>
          <p:cNvSpPr/>
          <p:nvPr/>
        </p:nvSpPr>
        <p:spPr>
          <a:xfrm>
            <a:off x="6032520" y="76212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979960" y="81288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 flipV="1">
            <a:off x="5100480" y="1198440"/>
            <a:ext cx="5040" cy="3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5486400" y="1260360"/>
            <a:ext cx="115920" cy="26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5791320" y="1198440"/>
            <a:ext cx="314280" cy="3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Document"/>
          <p:cNvSpPr/>
          <p:nvPr/>
        </p:nvSpPr>
        <p:spPr>
          <a:xfrm>
            <a:off x="6683400" y="38178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654960" y="3843360"/>
            <a:ext cx="57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Document"/>
          <p:cNvSpPr/>
          <p:nvPr/>
        </p:nvSpPr>
        <p:spPr>
          <a:xfrm>
            <a:off x="7674120" y="5562720"/>
            <a:ext cx="4633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620120" y="565164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Document"/>
          <p:cNvSpPr/>
          <p:nvPr/>
        </p:nvSpPr>
        <p:spPr>
          <a:xfrm>
            <a:off x="8300880" y="556272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248680" y="565164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7010280" y="3162240"/>
            <a:ext cx="312840" cy="501840"/>
            <a:chOff x="7010280" y="3162240"/>
            <a:chExt cx="312840" cy="501840"/>
          </a:xfrm>
        </p:grpSpPr>
        <p:sp>
          <p:nvSpPr>
            <p:cNvPr id="164" name=""/>
            <p:cNvSpPr/>
            <p:nvPr/>
          </p:nvSpPr>
          <p:spPr>
            <a:xfrm>
              <a:off x="7088400" y="316224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166520" y="330552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7048800" y="3520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166520" y="3520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010280" y="3413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"/>
          <p:cNvSpPr/>
          <p:nvPr/>
        </p:nvSpPr>
        <p:spPr>
          <a:xfrm flipV="1">
            <a:off x="6858000" y="350532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315200" y="35053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8229600" y="29714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607160" y="538488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683480" y="5041800"/>
            <a:ext cx="851040" cy="49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Document"/>
          <p:cNvSpPr/>
          <p:nvPr/>
        </p:nvSpPr>
        <p:spPr>
          <a:xfrm>
            <a:off x="3025800" y="57913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971800" y="57913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Document"/>
          <p:cNvSpPr/>
          <p:nvPr/>
        </p:nvSpPr>
        <p:spPr>
          <a:xfrm>
            <a:off x="241200" y="59436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00160" y="600696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Document"/>
          <p:cNvSpPr/>
          <p:nvPr/>
        </p:nvSpPr>
        <p:spPr>
          <a:xfrm>
            <a:off x="851040" y="625644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8480" y="631980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1384200" y="6324480"/>
            <a:ext cx="139680" cy="190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787320" y="6172200"/>
            <a:ext cx="736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3573360" y="6267600"/>
            <a:ext cx="312840" cy="501480"/>
            <a:chOff x="3573360" y="6267600"/>
            <a:chExt cx="312840" cy="501480"/>
          </a:xfrm>
        </p:grpSpPr>
        <p:sp>
          <p:nvSpPr>
            <p:cNvPr id="183" name=""/>
            <p:cNvSpPr/>
            <p:nvPr/>
          </p:nvSpPr>
          <p:spPr>
            <a:xfrm>
              <a:off x="3651480" y="626760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729600" y="641088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3611880" y="6625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729600" y="6625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573360" y="6518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3276720" y="6286680"/>
            <a:ext cx="304560" cy="190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39625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270400" y="60199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8"/>
          <a:stretch/>
        </p:blipFill>
        <p:spPr>
          <a:xfrm>
            <a:off x="6070680" y="2502000"/>
            <a:ext cx="293760" cy="58716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5878440" y="305280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5765400" y="2400120"/>
            <a:ext cx="30492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9"/>
          <a:stretch/>
        </p:blipFill>
        <p:spPr>
          <a:xfrm>
            <a:off x="1650960" y="494028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1447920" y="4572000"/>
            <a:ext cx="68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841400" y="5549760"/>
            <a:ext cx="190440" cy="241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0"/>
          <a:stretch/>
        </p:blipFill>
        <p:spPr>
          <a:xfrm>
            <a:off x="7265880" y="568476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7061040" y="626112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7315200" y="540972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3873600" y="6095880"/>
            <a:ext cx="164880" cy="35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37Z</dcterms:modified>
  <cp:revision>154</cp:revision>
  <dc:subject/>
  <dc:title>Slide 1</dc:title>
</cp:coreProperties>
</file>