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72045"/>
        <c:axId val="52756271"/>
      </c:barChart>
      <c:catAx>
        <c:axId val="62472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6271"/>
        <c:crosses val="autoZero"/>
        <c:auto val="1"/>
        <c:lblAlgn val="ctr"/>
        <c:lblOffset val="100"/>
        <c:noMultiLvlLbl val="0"/>
      </c:catAx>
      <c:valAx>
        <c:axId val="52756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2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1FB-5BFC-49A6-BEAA-3682A775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6CB-4143-47A8-AB2F-6BA9859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CCC-83B1-486C-8C1B-586ACC7F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C66-C3EF-4E6B-BEEC-86896849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33D-32C4-4056-B9FD-23AD53C3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9A3-2A2F-4632-A51A-91857028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957-3E06-4372-A2EA-740CF2D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2F6-7FBA-4964-88DD-E949520D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FCC-4E94-4838-B7D6-42D3E330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182-24AF-410C-B16E-87A61D9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E32-A3CB-4685-805C-AF01AA4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F6F-1A77-4E81-BEFB-8F38122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CF15F-4F3A-4FE9-8920-B5865E39B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