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87399"/>
        <c:axId val="23495964"/>
      </c:barChart>
      <c:catAx>
        <c:axId val="42887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95964"/>
        <c:crosses val="autoZero"/>
        <c:auto val="1"/>
        <c:lblAlgn val="ctr"/>
        <c:lblOffset val="100"/>
        <c:noMultiLvlLbl val="0"/>
      </c:catAx>
      <c:valAx>
        <c:axId val="23495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87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E81-B16A-419C-920A-1262E093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92C-4724-4F7D-9122-F51D6801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40C-F312-44F0-9213-91F20983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9C4-685B-42E6-8228-953AF3E4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FE5-444B-4359-A74B-9CD20B56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008-0AB8-43FF-917B-C1EE7DEF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582-956D-404D-B606-69FC66AD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37B-B8AA-4BE8-B787-40740E23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425-5D29-439B-8BF9-3360FC73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A04-3E6F-4775-BD93-751BDA88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13C-B283-4BF9-9EA1-6671F184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D12-4FC3-4113-93E3-6483EC6A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20012-5D75-4E2D-B7F3-0A263AC27C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