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2297"/>
        <c:axId val="46356872"/>
      </c:barChart>
      <c:catAx>
        <c:axId val="9772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56872"/>
        <c:crosses val="autoZero"/>
        <c:auto val="1"/>
        <c:lblAlgn val="ctr"/>
        <c:lblOffset val="100"/>
        <c:noMultiLvlLbl val="0"/>
      </c:catAx>
      <c:valAx>
        <c:axId val="46356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ED3-FD74-4EDB-82D9-26E42954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872-E7F8-48EC-9145-A420780F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4A9-35A1-4243-A30E-787541A9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3E8-BC09-4855-A5AE-A23B87F4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306-3D14-4BB6-8D22-53B5E589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C6E-5C54-4531-8A0E-ECF6236D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A7D-C7D5-4F1C-9A73-562A406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454-8B7A-472C-84DC-294DF8ED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17B-D5CA-45DA-AB6B-844DCED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657-D8B0-43E6-AC73-CD7C6D4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FCB-4B28-42EA-850F-56EBBC8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486-B94D-4674-B59D-BA8E1C2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96525-669D-4207-9AE4-115DE6B707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