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78678"/>
        <c:axId val="90242873"/>
      </c:barChart>
      <c:catAx>
        <c:axId val="30878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42873"/>
        <c:crosses val="autoZero"/>
        <c:auto val="1"/>
        <c:lblAlgn val="ctr"/>
        <c:lblOffset val="100"/>
        <c:noMultiLvlLbl val="0"/>
      </c:catAx>
      <c:valAx>
        <c:axId val="90242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78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360-1D65-4883-99EC-F94F6D86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6DA-5C3E-4390-8FA4-D53A14D7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C4E-7EF4-456C-9B3D-1B9A60AF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BB8-66D2-497D-AFB2-E64ACE7D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7A9-2151-478A-9B8D-65F175E4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744-F4B5-47F4-8330-1426DE93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961-73AD-46D8-8F82-A5846A66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395-F1C3-4A26-A21E-0586A8D9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CE5-EA42-46C3-9F76-2225F1C5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898-214D-40A9-A0CE-6FDBE8AF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EAF-8D09-48D0-88AF-3296FB48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933-1975-4B55-B7EC-0119EDB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D4580-CDD1-4661-818E-3B41E47E92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