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57689-D3F2-4410-B845-0AE3826C0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A71A7-A478-48D2-9557-C9D5A3F57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1D892-028D-44AF-A3DC-05D5C63DB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F9532-E4DA-46A2-9A52-7509064D5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02EE2-FBC7-432B-B7B1-E69542B7A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0054D-C90D-4D0D-8FD1-4A4B37210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862C1-C8A5-4488-B814-EBDB47149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F7234-4D66-4447-8B25-900C347DD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12664-151B-451F-94EC-863C8D4DD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F5547-BC8D-4CC2-A0DD-1F3091844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445D8-938E-41F8-A992-EE4F6196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35E20-003B-4D8D-9539-7A1100343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BC0AF-44B3-43A2-951B-BF1B2416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B4CA2-D960-4A47-9E4B-6CA6C0EE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23489-C566-4522-80E5-93236AF26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AD5A8-5072-4BC4-9745-8F36FF256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26C2D-1331-4C82-998E-87370DBC3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BF220-327C-4D28-B80F-056ADB51B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A3A99-FF78-4F70-8A9D-4EE085507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9C60B-FFC7-4AE3-9549-AB82BB06F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F35B0-A761-4EEA-8F82-24F2866E8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4B8AC-96EB-4600-9193-DD88BD96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6CAB8-6659-494B-AB2D-B0803478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64CD1-50A0-4EA8-B0CD-59139607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8B228-E684-44D5-A9C9-7008AB809A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A9CDA-0ED8-4325-BB66-CE44E7F58B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1699920"/>
            <a:ext cx="5324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ffffff"/>
                </a:solidFill>
                <a:latin typeface="Arial"/>
              </a:rPr>
              <a:t>LCCS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400" spc="-1" strike="noStrike">
                <a:solidFill>
                  <a:srgbClr val="000000"/>
                </a:solidFill>
                <a:latin typeface="Arial"/>
              </a:rPr>
              <a:t>A Pure Tcl/Tk Train Traffic Supervision Syste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Reading synoptic and configuration</a:t>
            </a:r>
            <a:br>
              <a:rPr sz="40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importance of safe interpreters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out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pplications which source configuration files can not be trusted to run in a realistic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would have to write our own input pro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Implementing a specialised parser is straightforw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87640" y="2276640"/>
            <a:ext cx="5905440" cy="42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Config::Colors {file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set_color { object color 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global 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object [string tolower $objec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COLORS($object) $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parser [interp create -saf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hide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alias set Config::set_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afeSource $parser $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erp delete $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name set_color {}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The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Colors [file join $ETC Color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cales [file join $ETC Scale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LanguageStrings [file join $ETC Languag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Synop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ynoptic $canvas [file join $ETC global Synoptic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Synoptic descrip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546440" cy="447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way synop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eg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c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 circu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    id        segments        variable 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-AM   {seg1}                 A001   "C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3-AM   {seg3}                 A003   "C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5-AM   {seg5a seg5b}     A005   "C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7-AM   {seg7a seg7b}     A007   "C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9-AM   {seg9}                  A009   "C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1-AM {seg11a seg11b} A012  "C1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3-AM {seg13}                A013  "C1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id          coordinates    anchor    variable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1-AM {3500 8700}  {top left}     A014     "M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3-AM {9000 8700}  {top right}   A015     "M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b SB-AM {11400 8700} {top left}    B016     "SB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4 S5-AM {11000 8700} {top left}     A016     "S5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67280" y="1484280"/>
            <a:ext cx="4535280" cy="338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ia ascend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 {{2000 8500} {3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3 {{3562 8500} {5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a {{5062 8500} {7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b {{7000 8500} {6500 8500} {604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a {{7062 8500} {9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b {{7062 8500} {7500 8500} {7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9 {{9062 8500} {11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a {{11062 8500} {13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b {{11062 8500} {11500 8500} {11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3 {{13062 8500} {14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01 {{14562 8500} {16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67120" y="496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64200" y="5032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4076640"/>
            <a:ext cx="3097440" cy="16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cales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Xscale 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Yscale -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nfigura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1484280"/>
            <a:ext cx="604836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alid color names:BGROUND FGROUND CDVFREE CDVOCU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CAISCOLOR TEXTCOLOR WARNCOLOR ERROCOLOR CANLCO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OKCOLOR INATCOLOR BLUNAR VIOLET ROUGE V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ynoptic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FREE "#fffff916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OCUP "#f80f13f84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GROUND "#00000000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FGROUND "#dceddced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ISCOLOR "#a6a7a6a7a6a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TEXTCOLOR "#ffffffffffff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ARNCOLOR "#ffc0ffff845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RRO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L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COLOR   "#4854cc07432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NATCOLOR "#ededededed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LUNAR "#fffffa5cec4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VIOLET "#950b0000d3b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RED    "#ffff0000424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GREEN  "#0000efde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71640" y="1989000"/>
            <a:ext cx="41054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Languag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LANGUAGE portugu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1700280"/>
            <a:ext cx="4537080" cy="49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trings.portugues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AM2 "ALAMEDA 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L  "OLAI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V  "BELA VIST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H  "CHEL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R  "CABO RUIV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S  "OLIVAIS SU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R  "ORIENTE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      "Confirm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CEL  "Cancel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XIT    "Sair"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     "CDV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C    "Comando centr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L    "Comando loc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T      "Itinerári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A      "Itinerários automátic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P      "Itinerários permanente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S      "Bloqueio de saíd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ERR "Erro de comunicação com o MicroLok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synoptic is generated together with the code which will implement its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the small synoptic presented here &gt;50% of automaticaly generated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large synoptics can go up to ~9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16000" y="2276640"/>
            <a:ext cx="2087640" cy="30970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de generation</a:t>
            </a:r>
            <a:br>
              <a:rPr sz="4400"/>
            </a:b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How hard is to write co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73440" y="2781360"/>
            <a:ext cx="431640" cy="2592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 generating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2276640"/>
            <a:ext cx="4897440" cy="43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2781360"/>
            <a:ext cx="489744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inamicaly generated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692360" y="5734080"/>
            <a:ext cx="5904000" cy="309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"/>
          <p:cNvSpPr/>
          <p:nvPr/>
        </p:nvSpPr>
        <p:spPr>
          <a:xfrm>
            <a:off x="3783240" y="61657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ness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50160" y="60930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77080" y="60930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of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ol Tcl/Tk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cl fine control of its slave interpr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de and data share the same re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k supports complex GUIs and megawidgets as well as the </a:t>
            </a: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simplest, and ugliest conceivable GU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11280" y="24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rain Traffic Supervision: what they are and how they look l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LCCS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ading synoptic description and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Tcl/Tk features I like 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s a local train traffic supervision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LCCS stands for 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Local Control Computer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as developed by J.Lima and J.Rocha to the Lisbon Underground Train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emonstrate the feasibility of the entire Train Trafic supervision and control software using Tcl/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Replace the obsolete system just being instal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idea was supported by the engineering team and by the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However, it was rejected by the mana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For what is used f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upervise the railway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 at the operational level: granting or defering a train depar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define the itineraires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(source, destination and pa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Manualy conducting manouvers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erform abnormal condition recovering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driver crossed the boundary of a forbiden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 train is malfunc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y look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LCCs are based on Workstations or PCs. However, they work much like embedd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don’t want operators playing solitai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X11 session will launch a single full screen application (no window manag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No further control is granted to the op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ystem must be capable of recovering from software errors – should have no histor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One word about saf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n railway systems safety and functionality are handled separate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operational/supervision software handles func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PLC hardware handles the all safet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594480" cy="4883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792144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/Tk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icated canvas for the synop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ons for communication with the P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thing coded in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ynoptic; the communication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figuration can be TCL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the communication protocols are forms of TC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1700280"/>
            <a:ext cx="7848360" cy="1944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900000" y="1773000"/>
            <a:ext cx="6696360" cy="1871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he Tcl O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759280" cy="3833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5280" y="1484280"/>
            <a:ext cx="144000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cl confi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4941720"/>
            <a:ext cx="2016000" cy="144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grams cod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 bare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72360" y="4581360"/>
            <a:ext cx="2520720" cy="165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essa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chang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betwee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re in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308720" y="2637000"/>
            <a:ext cx="165744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O is al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form of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050920" y="5013000"/>
            <a:ext cx="649440" cy="144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050920" y="3357720"/>
            <a:ext cx="505080" cy="1800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050920" y="3789000"/>
            <a:ext cx="2233800" cy="1368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1989000"/>
            <a:ext cx="1152720" cy="287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3059280" y="4149720"/>
            <a:ext cx="3528720" cy="1008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5508720" y="4437000"/>
            <a:ext cx="1079280" cy="720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732360" y="3357720"/>
            <a:ext cx="718920" cy="142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20:43:46Z</dcterms:created>
  <dc:creator>Nome de utilizador</dc:creator>
  <dc:description/>
  <dc:language>en-US</dc:language>
  <cp:lastModifiedBy>Nome de utilizador</cp:lastModifiedBy>
  <dcterms:modified xsi:type="dcterms:W3CDTF">2005-10-27T14:40:06Z</dcterms:modified>
  <cp:revision>12</cp:revision>
  <dc:subject/>
  <dc:title>Diapositivo 1</dc:title>
</cp:coreProperties>
</file>