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DE33-8C32-4116-8D7A-B1316B553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9520-8026-4645-BB02-CF5925BDF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4250-C1EF-4AE2-96CD-DD558025C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8452-4E95-4575-864D-0C8C4839C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D905-642C-4EFA-95F9-34B2D35CD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A6B5-C1E0-4BC7-AB86-8EC5F8E4F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B8A2-97D0-4E9D-B5B7-A62DB853F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0F0B-CDC8-4F30-9426-787AB4426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55DF-902D-40A1-8C09-7090A3347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34A5-E3E3-4E38-96ED-70164BC5D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DBA0-542A-423D-B5AE-B77894690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8B0C-C222-4581-A53A-D42AB01FD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7D1D8-E3B8-466B-9E86-5AAF972A52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rapping Fortran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jen Mark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ne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PACK: final 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ding the unnecessary argu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dbdsdc { uplo compq d e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[list $dnew $u $vt $q $iq $info]  ;# Leaving out "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 types of dat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ars (mostly floating-point and integ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-dimensional arrays (vecto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-dimensional arrays (matric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ly: mapped onto Tcl lists and nes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ting the wrapper c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inguish the various roles of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gu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put data (scalar/arra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put arguments (scalar/arra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zes of array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 na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ndling the ro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ilerplate code (integer array v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laration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ong *v; int size__v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lisation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 WrapCopyIntListToArray( interp, objv[1], &amp;v, &amp;size__v ) != TCL_OK 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cl_SetResult( interp, “Argument 1 must be a list of integers”, NULL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TCL_ERR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ean-up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kfree((char *)v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 of argu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tran routine (arrays x and w are returned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subroutine lagzo( n, x, w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integer 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double precision x(n), w(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wrapp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Wrapfort::fproc ::Specfunc::laguerreZeros lagzo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      n  inp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-array  x  {allocate n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-array  w  {allocate n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de {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agzo( &amp;n, x, w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…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dditional code: return arrays x and w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chnical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e of arguments can not be deduced automatic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knowledge of C and Fortran and interfacing the two is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urning more than one result (as a list) requires extra code – not handled automatically y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PACK - wrap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ndreds of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most interest: the “driver”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guments are well described – automation pos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handcrafting still required (to make the interface more Tcl-like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NPACK: user-defined fun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ing zeros for a vector-valued func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broutine hybrd1(fcn,n,x,fvec,tol,info,wa,lw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n,info,lw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precision t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precision x(n),fvec(n),wa(lw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xternal fc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unction is implemented via a user-defined subrouti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broutine fcn(n,x,fvec,ifla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n,ifla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precision x(n),fvec(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lculate the functions at x 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this vector in fve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NPACK –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rresponding Tcl procedu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fcn {x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{ ... $x too far away ...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–code error “Unacceptable solution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$fvec ;# Vector-valued fun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NPACK - wrap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ition via Wrapfort: subroutine fcn(n,x,fvec,ifla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rapfort::fexternal fcn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tran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eger      n     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-array x      {input n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-array fvec   {output n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eger      iflag  out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oproc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x     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vec   resul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nerro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*iflag = -1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rapping Fortran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 of numerical libra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ing the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ng the wrapper co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rther develop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about Ftcl and Wrapf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tcl is a project on SourceForge to combine Tcl and Fort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apfort is part of that project, focusing on generating interfa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avoid all C programm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ftcl.sf.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rther develop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ance: Tcl lists may not be the best representation in all c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apping C libraries (akin to Critc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ing whole programs – develop a strate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ate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apping such libraries makes this functionality available to Tcl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also makes Tcl’s flexibility available to engineers and scient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 of numerical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PACK: Linear algebra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func: Special mathematical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PACK: least-squares minimis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ing multidimensional integrals (Strou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FTW: Fourier trans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gning the interfa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typical ex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fit to Tc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BROUTINE AIRYA(X,AI,BI,AD,B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=====================================================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Purpose: Compute Airy functions and their derivativ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Input:   x  --- Argument of Airy fun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Output:  AI --- Ai(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BI --- Bi(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AD --- Ai'(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BD --- Bi'(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Routine calle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AJYIK for computing Jv(x), Yv(x), Iv(x) 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Kv(x) with v=1/3 and 2/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=====================================================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MPLICIT DOUBLE PRECISION (A-H,O-Z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ace: fit to Tcl?  - par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c airy {x ai_ bi_ ad_ bd_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var 1 $ai_ a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var 1 $bi_ b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var 1 $ad_ 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var 1 $bd_ b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ss variable names – rather unus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ace: fit to Tcl? –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2: Return a list of 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c airy {x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[list $ai $bi $ad $bd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3: Separate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c airyA {x} {      proc airyB {x}   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$ai            return $b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PACK routines – par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BROUTINE DBDSDC( UPLO, COMPQ, N, D, E, U, LDU, VT, LDVT, Q, IQ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$                   WORK, IWORK, INFO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-- LAPACK routine (version 3.2)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-- LAPACK is a software package provided by Univ. of Tennessee,   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-- Univ. of California Berkeley, Univ. of Colorado Denver and NAG Ltd..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November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.. Scalar Arguments 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HARACTER          COMPQ, UP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           INFO, LDU, LDVT, 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.. Array Arguments 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           IQ( * ), IWORK( *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PRECISION   D( * ), E( * ), Q( * ), U( LDU, * 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$                   VT( LDVT, * ), WORK( *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PACK routines –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 argument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guments that are array dim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guments that provide work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output arg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ed in Tcl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if we use lists to store th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1T05:07:48Z</dcterms:created>
  <dc:creator>Computer Services</dc:creator>
  <dc:description/>
  <dc:language>en-US</dc:language>
  <cp:lastModifiedBy>Computer Services</cp:lastModifiedBy>
  <dcterms:modified xsi:type="dcterms:W3CDTF">2010-06-04T04:54:37Z</dcterms:modified>
  <cp:revision>15</cp:revision>
  <dc:subject/>
  <dc:title>Wrapping Fortran libraries</dc:title>
</cp:coreProperties>
</file>