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86218"/>
        <c:axId val="19764799"/>
      </c:barChart>
      <c:catAx>
        <c:axId val="71986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64799"/>
        <c:crosses val="autoZero"/>
        <c:auto val="1"/>
        <c:lblAlgn val="ctr"/>
        <c:lblOffset val="100"/>
        <c:noMultiLvlLbl val="0"/>
      </c:catAx>
      <c:valAx>
        <c:axId val="19764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86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CC8-9060-41D6-973F-B78249CE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D87-B8EA-4A26-B7E0-CC9547D0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AB0-FB0F-4EB4-BCF7-D8EE2076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A5D-C44F-4021-8D3D-5CA337EB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D66-E67F-43B7-85EE-DA043D7B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A97-9C01-4316-9EDF-904D532D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FA1-07EE-4995-8E8C-74048B51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D4F-2D29-4441-9F8A-A93C93C9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D53-2F8B-40BF-B73A-9CA9B8B6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414-791E-4460-918D-DE6259C1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6FF-85E0-4093-BD68-C971679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7F2-6273-40AF-8E0E-8182F586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8BBAC-D156-45FC-9C5B-B3646B0C91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