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89728"/>
        <c:axId val="23791505"/>
      </c:barChart>
      <c:catAx>
        <c:axId val="39889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91505"/>
        <c:crosses val="autoZero"/>
        <c:auto val="1"/>
        <c:lblAlgn val="ctr"/>
        <c:lblOffset val="100"/>
        <c:noMultiLvlLbl val="0"/>
      </c:catAx>
      <c:valAx>
        <c:axId val="23791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89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5D6-01CB-448E-92B9-12EEE506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AA2-6FCE-4BB5-8220-61B6F335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33C-DAE3-4009-8C92-39CD22D4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0B8-7C7B-47C5-B835-A5429E72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248-CCB9-4956-9A48-E1F86577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C75-A24B-4608-921B-AB5B19D1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5F3-7042-4270-9B73-46F9E4F7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6E0-7719-4360-A8A3-5DEEDBA0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24F-22AD-4C39-8115-843D3947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467-E1C3-4FCA-A12C-9D3CC0D5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BB6-DC98-4DF6-B784-2E4D81CD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2A0-EDBA-47CA-A795-D3171E86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7A42E-BFC4-43F6-B1A1-7F4B696F5F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