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6858"/>
        <c:axId val="34965810"/>
      </c:barChart>
      <c:catAx>
        <c:axId val="22836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5810"/>
        <c:crosses val="autoZero"/>
        <c:auto val="1"/>
        <c:lblAlgn val="ctr"/>
        <c:lblOffset val="100"/>
        <c:noMultiLvlLbl val="0"/>
      </c:catAx>
      <c:valAx>
        <c:axId val="34965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6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F7A-9D31-44E3-A212-A109F97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A6C-0FA0-454F-BAB7-C0FAAB1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8FE-F778-4208-B39A-8F94AD6A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562-2297-49EC-938D-2E75FF42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E8D-BB52-4356-93A1-972583D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EDE-E020-4308-BE04-B54F536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1E3-15EC-46AE-A5DB-E49B8787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11C-2A2E-4AD4-B06F-1518CA8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143-4476-4006-B515-C6A6D48E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94F-93DF-42AC-BAF2-D3E8806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FF-BC98-4DFA-9B05-5D348F9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22D-875E-4FF8-87CC-70FE11E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51F4F-6D77-4206-9B8B-E917FC300A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