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60186"/>
        <c:axId val="74443985"/>
      </c:barChart>
      <c:catAx>
        <c:axId val="54360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3985"/>
        <c:crosses val="autoZero"/>
        <c:auto val="1"/>
        <c:lblAlgn val="ctr"/>
        <c:lblOffset val="100"/>
        <c:noMultiLvlLbl val="0"/>
      </c:catAx>
      <c:valAx>
        <c:axId val="74443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0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AAA2-24D0-49AE-9074-4FF6A015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3F0-20A8-4693-8468-182F4F6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383D-69C6-4C0A-A714-6EA7F4CD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8E5-0803-4ABF-95CF-9FF57B38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8B3-F3AB-4B91-94C2-2A0BD953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353-0DAD-41B2-A01B-26309377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303F-4658-4836-B83C-5618A840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003-7122-4F78-B3FC-16C8BD64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C07-A53B-4C57-93B3-E416A38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901-2E64-476A-B191-A595052F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BA2-DE82-4198-B0A0-B6ECDC1F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D90-D8A3-410F-B781-A9331B1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F6311-B98C-4E10-94BC-0CB83FE0D6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