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062859"/>
        <c:axId val="87844190"/>
      </c:barChart>
      <c:catAx>
        <c:axId val="240628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44190"/>
        <c:crosses val="autoZero"/>
        <c:auto val="1"/>
        <c:lblAlgn val="ctr"/>
        <c:lblOffset val="100"/>
        <c:noMultiLvlLbl val="0"/>
      </c:catAx>
      <c:valAx>
        <c:axId val="878441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628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608-E885-4C9A-8ED2-87D81E4C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D7F0-F7F1-4296-ADCF-777BE9DD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8E6-BD1A-471A-A2E4-95EBBF72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DB31-C9D9-4448-919B-508067A0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680-2EEA-492A-9376-B13BAAB7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923E-2226-41E9-A09A-6615EEF5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6B5-4CD0-4F69-A394-3E5E8130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E375-39D2-4DC6-9E25-667B55BC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292-9BE4-4D84-B94C-E14EECEC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F47A-E9BC-44EA-861A-4043CF8F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52D2-9DFC-4F90-B96B-B08DDC95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F52-F8D1-474F-97D6-78CB5F6C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10052-F22F-4822-87E2-E34F2F1BD9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