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7321"/>
        <c:axId val="22064824"/>
      </c:barChart>
      <c:catAx>
        <c:axId val="3187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64824"/>
        <c:crosses val="autoZero"/>
        <c:auto val="1"/>
        <c:lblAlgn val="ctr"/>
        <c:lblOffset val="100"/>
        <c:noMultiLvlLbl val="0"/>
      </c:catAx>
      <c:valAx>
        <c:axId val="22064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7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A78-21FB-41C4-B81C-14C92B1F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119-177C-4C91-A910-5763E97A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A2D-F739-4ECC-B5E7-A3B8E9CF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64E-B611-4599-9488-E875341B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979-1D09-41DC-9B82-9975C607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84D-F247-49DC-8D8C-F23506A6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628-7D3A-43B0-8AAD-1A7E0160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179-2B06-4CEC-8320-25AA4C42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3E5-A95D-4333-A51E-A159E0A2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5F9-FE72-43B7-A644-44AC809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390-6DB4-46E9-95B3-AC872EF4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74B-6153-4740-ABD9-7AC1049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22E62-49AC-4853-A4CA-57417DA483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