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01326"/>
        <c:axId val="79819443"/>
      </c:barChart>
      <c:catAx>
        <c:axId val="88101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19443"/>
        <c:crosses val="autoZero"/>
        <c:auto val="1"/>
        <c:lblAlgn val="ctr"/>
        <c:lblOffset val="100"/>
        <c:noMultiLvlLbl val="0"/>
      </c:catAx>
      <c:valAx>
        <c:axId val="79819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01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3B3-2378-4095-B6AC-D1DC8D4D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D72-1776-4CF2-8756-14C99AE4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AD6-C55E-4ED7-8F3A-5E1B8BC4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8A4-7EB9-49E1-9DB4-B9655C54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F87-DD46-41EB-850E-20D03509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968-FCBD-4F1E-B4BF-E7C2F410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319-319B-4971-9BEC-EB65C8F2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8E0-9C0A-4125-870C-14958AB3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397-261D-43A3-96B5-66E00A0F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384-C1A0-4538-A451-643DE4F0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164-A005-48FC-963D-008AE76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E0C-44C0-454C-9342-AAE2E98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4108F-7B64-45CC-814A-4F4269FE7A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