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434239"/>
        <c:axId val="50115007"/>
      </c:barChart>
      <c:catAx>
        <c:axId val="784342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115007"/>
        <c:crosses val="autoZero"/>
        <c:auto val="1"/>
        <c:lblAlgn val="ctr"/>
        <c:lblOffset val="100"/>
        <c:noMultiLvlLbl val="0"/>
      </c:catAx>
      <c:valAx>
        <c:axId val="501150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4342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D0AB-19E8-44A3-A206-35084520B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C8A4-D9D6-4901-BB50-D9970389D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E34D-D863-4C3E-BF02-1ECB249FC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BEF5-5A38-463F-B7AA-9EAABE73F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F336-638C-40C4-B7C4-35B7AC5BF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EE5B-161A-4151-802E-05CC23C4B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B22F-218F-4B7D-8A9A-00AF34EC7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391F-B94B-44E1-986D-985024642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2C4F-FD30-45D4-AA38-71D4500A4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12DD-A25B-4C26-B908-ECD190AA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50F4-BDE2-4598-A20D-AC17463FC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6C7E-FEBA-449A-BEB0-FC0D790CE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9890B7-94D8-4DDC-B332-50B1B5DBFA6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