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85896"/>
        <c:axId val="76900166"/>
      </c:barChart>
      <c:catAx>
        <c:axId val="54685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00166"/>
        <c:crosses val="autoZero"/>
        <c:auto val="1"/>
        <c:lblAlgn val="ctr"/>
        <c:lblOffset val="100"/>
        <c:noMultiLvlLbl val="0"/>
      </c:catAx>
      <c:valAx>
        <c:axId val="769001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85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67CF-1B1B-45E5-B0F0-7931DB43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B103-0A0B-438F-B05A-BDDCCA29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14A9-300E-4277-A664-B7ACAAC8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148-C0E0-483C-930F-976096EA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A3D3-AF19-40A8-BAC8-147E5B9C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5A9-3AA3-41B8-AE61-394BC02F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70B2-3464-4445-9D5E-DFE0B9D8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1804-5428-46A2-AAE8-3C802886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FD0-DDCE-4277-9DDF-02911875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1E8A-E796-4384-9B1E-E743FED1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CAA-AC8A-4D1B-9630-64D8DD80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B5B-6303-4E2A-A0D8-25225091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62B0B-D20E-450F-A2BC-B6CF4501FC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