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3466"/>
        <c:axId val="346727"/>
      </c:barChart>
      <c:catAx>
        <c:axId val="9843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727"/>
        <c:crosses val="autoZero"/>
        <c:auto val="1"/>
        <c:lblAlgn val="ctr"/>
        <c:lblOffset val="100"/>
        <c:noMultiLvlLbl val="0"/>
      </c:catAx>
      <c:valAx>
        <c:axId val="346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693-3DCD-40A1-8E65-CEB7DE8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E29-316D-43B7-A82B-84E8653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9CE-8C04-493C-BC3C-D64063FC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D18-9330-4AD6-A7AB-CD253E3B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DEF-40F0-47A4-A2EA-08CC52E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E01-D458-47B6-A1AD-807FE2D1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9A3-5DC2-4827-A5F7-773D6A4D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6EC-5A23-48FD-ADCF-9BD0B83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B6F-ED4C-491A-8793-1C65545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4F5-E0B0-48E0-BFD7-8A3B94C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D02-7320-4F29-958D-B4706A4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2C8-8994-40F1-81CD-B4102D0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E61FF-25D5-45A1-9F2D-ED7C2F19F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