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874771"/>
        <c:axId val="28501771"/>
      </c:barChart>
      <c:catAx>
        <c:axId val="688747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01771"/>
        <c:crosses val="autoZero"/>
        <c:auto val="1"/>
        <c:lblAlgn val="ctr"/>
        <c:lblOffset val="100"/>
        <c:noMultiLvlLbl val="0"/>
      </c:catAx>
      <c:valAx>
        <c:axId val="28501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747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49F-9A95-4C69-8AB7-24FF17AB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3749-B660-495F-9313-F001011E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77A7-3F0F-45F1-A96A-ED458B83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BCB-9ED9-45AC-9399-45EEDE9E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F4F8-BD14-473F-B1B7-4FD21D13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E3C-26DA-4297-9389-BACD82DF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909A-0B09-4763-B9DB-324216A6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6AB3-6B3C-46A9-9D6C-4BD06B20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DC1-2DD1-41F8-B5C5-E5C2452D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2B2C-B0ED-4AA6-8F4D-B019A553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5AF-A645-4FB8-962F-C1A7A02D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C506-1100-484E-A3F0-1D405A2D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D19A9-5D57-4A5A-872F-110CD2D1E5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