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07534"/>
        <c:axId val="66961593"/>
      </c:barChart>
      <c:catAx>
        <c:axId val="10507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61593"/>
        <c:crosses val="autoZero"/>
        <c:auto val="1"/>
        <c:lblAlgn val="ctr"/>
        <c:lblOffset val="100"/>
        <c:noMultiLvlLbl val="0"/>
      </c:catAx>
      <c:valAx>
        <c:axId val="66961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7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220-4EED-4B7F-B609-8368439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9D1-07E7-4DF9-B606-5D83F6F3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52E-DB73-40C0-94D0-F44F0E03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EE1-6538-4D51-8856-69C2F704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069-406A-48C0-B1A2-7CE0594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5B7-A092-4BFC-9502-F5BBCC9B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C7D-7A00-45AD-979A-8B497DA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709-949A-4BE9-A445-11AA48B8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3E9-9F13-4138-ABD4-ABBC9CB2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91A-CF68-4834-A543-C7F021C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78B-ED63-4BD7-93B9-8341AC9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5E9-F484-4BDC-B86A-375E8276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AE171-F433-42FB-991C-118933D615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