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55380"/>
        <c:axId val="39676223"/>
      </c:barChart>
      <c:catAx>
        <c:axId val="92355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6223"/>
        <c:crosses val="autoZero"/>
        <c:auto val="1"/>
        <c:lblAlgn val="ctr"/>
        <c:lblOffset val="100"/>
        <c:noMultiLvlLbl val="0"/>
      </c:catAx>
      <c:valAx>
        <c:axId val="39676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55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D5F-493A-4463-8C0D-8CF9E817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76E-008F-4E3E-9450-6398F02E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6A1-B3B1-4DBF-8279-05934A6A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65F-9FAF-4A3F-BC39-71867903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F62-F15F-4D09-B190-B3313E5B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826-E7F3-42E6-86C9-1BC72CE1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856-FBB8-4931-B9AD-C42B35A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21C-5BF4-40A2-80AB-EC38BBB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C64-3EBD-4A28-A8F6-041CEFD1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2D4-305C-42F6-A4C5-039CE59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F9B-3202-4D00-808A-3CCD859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68F-1924-4255-8588-C28BE95C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4D035-2829-4B7C-9DB5-739E1E3C6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