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42178"/>
        <c:axId val="25672502"/>
      </c:barChart>
      <c:catAx>
        <c:axId val="28742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72502"/>
        <c:crosses val="autoZero"/>
        <c:auto val="1"/>
        <c:lblAlgn val="ctr"/>
        <c:lblOffset val="100"/>
        <c:noMultiLvlLbl val="0"/>
      </c:catAx>
      <c:valAx>
        <c:axId val="25672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42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972-DB08-4840-8CAB-3FDBAD2F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04A-5083-4306-BE1D-359B4FAB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DD6-9D70-46AF-81F2-8E7B036D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EFB-F275-4858-A01D-AF93C6A5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8A2-B710-4DCA-A8ED-BB21EEA3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588-E980-4DA5-93B4-A381140E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5B7-1A34-400F-948C-7F368A3F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FEC-4C9D-4C51-BFD2-30FE4600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1A6-72A1-4451-8A9A-9A87934B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64C-3942-426E-8BEE-C443BA92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8DD-444A-46F6-BF0C-B06A8B02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2E0-9CFF-4211-9829-8F0B760E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7AA7A-8C3F-45B2-A8C8-A7753C440C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