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544213"/>
        <c:axId val="86583184"/>
      </c:barChart>
      <c:catAx>
        <c:axId val="635442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83184"/>
        <c:crosses val="autoZero"/>
        <c:auto val="1"/>
        <c:lblAlgn val="ctr"/>
        <c:lblOffset val="100"/>
        <c:noMultiLvlLbl val="0"/>
      </c:catAx>
      <c:valAx>
        <c:axId val="865831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5442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E74B-C535-41CE-9983-892091E99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F1E5-FDB3-4C88-ADBC-AD11D755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F01E-303F-43C9-B576-B0CE2C38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E17C-67E7-47D9-8343-0C14A8539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0A5E-59F2-4CD5-91AA-0339F17D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9E6F-09B4-4047-8519-075D7602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EADE-BE02-4A5F-9E53-0219E0F7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85BB-B1BA-4663-9854-D89FC8BB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04D0-3158-42BB-A8F9-8332164F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0924-2E21-48DD-A6C1-0E395A5E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924A-9F74-44ED-BBAD-2F61B6E7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44D0-E3C2-4D55-BCEC-C3860014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3C3FB-5AB0-4ED8-8690-568E21AB74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