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98456"/>
        <c:axId val="5892893"/>
      </c:barChart>
      <c:catAx>
        <c:axId val="68498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2893"/>
        <c:crosses val="autoZero"/>
        <c:auto val="1"/>
        <c:lblAlgn val="ctr"/>
        <c:lblOffset val="100"/>
        <c:noMultiLvlLbl val="0"/>
      </c:catAx>
      <c:valAx>
        <c:axId val="5892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98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228-F0FB-4118-994B-B3483DF4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ACB-17DE-44F3-88A3-503F8D96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EDE-60FD-457D-BFBE-CBB0B62F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0EA-1626-45CE-B582-CBBFFE7A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5BF-0A16-4BE8-9FBD-23172965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E66-A935-4D05-8659-B8567C11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91A-6965-402F-8D62-E56F5DB7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985-F87F-45EF-8A02-A5259B6F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275-AF0F-4A17-845E-6D1D86BF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4F4-2645-4902-AAE8-F57434B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117-E13B-42F4-96DA-EF39F4A2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24B-8CCB-42CA-8FF3-7FA9D2E9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67F23-3537-45A6-AA54-F51FF7FB69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