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18556"/>
        <c:axId val="16106429"/>
      </c:barChart>
      <c:catAx>
        <c:axId val="193185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06429"/>
        <c:crosses val="autoZero"/>
        <c:auto val="1"/>
        <c:lblAlgn val="ctr"/>
        <c:lblOffset val="100"/>
        <c:noMultiLvlLbl val="0"/>
      </c:catAx>
      <c:valAx>
        <c:axId val="16106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185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CB2-F2B1-4438-B8B6-652CB415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A08-3EDF-40FB-BF46-8CD09FF1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5F0-BC57-40FF-80E3-926A68D0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7B1F-4DC1-47A1-94B6-EF1561F4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4DE8-1E8C-4221-83BD-016A6D61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93B-F78A-489C-A93D-285D5982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12C-2012-46AB-8713-5DE4EF89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611-5846-4ABD-86C4-E57C51C1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654-FE18-45BE-81D7-EF037D26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C4E-BEDA-484B-AEE4-E6AE0E07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6C8-0ED7-47AA-897A-3118600A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D97E-C0E8-41AB-BBC6-3CC09598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042B1-71F3-4561-A3B4-0CE62DC930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