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93241"/>
        <c:axId val="53668528"/>
      </c:barChart>
      <c:catAx>
        <c:axId val="320932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68528"/>
        <c:crosses val="autoZero"/>
        <c:auto val="1"/>
        <c:lblAlgn val="ctr"/>
        <c:lblOffset val="100"/>
        <c:noMultiLvlLbl val="0"/>
      </c:catAx>
      <c:valAx>
        <c:axId val="53668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932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436-4E61-406C-B9B7-D82CD135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A05-5961-44C3-9DD9-7E35F20E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79A2-5F21-4CD5-A40E-AA871295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BA8-AC93-4082-AAF0-E1B086F9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AC47-EC00-42AC-988A-124E3A23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0DC-4ACE-4D39-A6FB-2555BF6A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BB25-34E5-4C94-8DD1-9C4BAD94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0820-6457-43AE-8C68-2218E6A7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29F-CEE1-4064-BBB2-797591BD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F81D-9510-48DD-A3E7-9B988DBE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C16-7EBC-4FFA-A24C-56EDE475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866-EE74-4F8B-ACCA-58C1C3C0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B9E63-8B6A-4A4F-A07F-02DB24395D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