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36415"/>
        <c:axId val="21426804"/>
      </c:barChart>
      <c:catAx>
        <c:axId val="53636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26804"/>
        <c:crosses val="autoZero"/>
        <c:auto val="1"/>
        <c:lblAlgn val="ctr"/>
        <c:lblOffset val="100"/>
        <c:noMultiLvlLbl val="0"/>
      </c:catAx>
      <c:valAx>
        <c:axId val="21426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36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486-4757-48AC-BE2C-2E23824E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756-D3AE-4539-A281-73B12B78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71E-EBEC-4C95-9CFA-86D4A4E9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C061-7B94-43E6-9218-8F2D61E9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2526-0640-459E-B6EF-A7466394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175-5826-4DD5-909B-27748422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5165-5C4D-47F8-A27B-FE81BFF3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E883-2371-4FDA-9C32-76878D14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3826-BA00-4F22-AC0D-5E4CF425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7E00-2E3B-47F2-BDD0-B1E48371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0A4-8420-40BD-B747-6E63E6AF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1678-499C-4A73-8239-553ADF82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59DDE-B4AA-4256-832E-66692CCF65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