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61918"/>
        <c:axId val="11997138"/>
      </c:barChart>
      <c:catAx>
        <c:axId val="90761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7138"/>
        <c:crosses val="autoZero"/>
        <c:auto val="1"/>
        <c:lblAlgn val="ctr"/>
        <c:lblOffset val="100"/>
        <c:noMultiLvlLbl val="0"/>
      </c:catAx>
      <c:valAx>
        <c:axId val="11997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61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D2D-9A4F-4464-88D3-22A67B31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732-355D-4EEA-9324-0489B25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A25-EFF6-4126-ACCA-AEC3DF31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967-57AD-414E-A3C8-825DCB8B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CC5-2ACC-48FE-8D04-F504058A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DCB-F089-4C8A-BB8F-B9C0CBD7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4C7-A8BE-41A8-9B40-892CC697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D23-9F9E-41B9-903B-8E630EA3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FED-5F1F-434D-B181-F0676C38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5DF-8E29-468C-BB17-4CBA51E0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983-8495-433B-8DC0-372A4C09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A07-D328-4B27-8D77-61A94E95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39943-3EE2-4AEE-AF03-57C50AA6CC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