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969212"/>
        <c:axId val="1297102"/>
      </c:barChart>
      <c:catAx>
        <c:axId val="159692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97102"/>
        <c:crosses val="autoZero"/>
        <c:auto val="1"/>
        <c:lblAlgn val="ctr"/>
        <c:lblOffset val="100"/>
        <c:noMultiLvlLbl val="0"/>
      </c:catAx>
      <c:valAx>
        <c:axId val="12971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9692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4A19-4456-419E-A4CC-AF6A6A2AB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8AD3-2485-4A48-8195-737128572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E859-DB89-4E1B-9BEA-FACAF424C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E624-0322-4E31-8571-86BB37667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B14F-E296-4C72-A2AE-6EF2C4557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F12A-FB3D-4499-87DD-3C9402125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520A-C097-486C-8790-C621A5E17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706D-DAE9-40DB-85B5-D4B9BF519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E0FF-2A93-4D37-A85D-0327D4DA7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67D3-989A-4C0F-9C71-E429F83D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ED71-15AF-48DC-A23B-A2077899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802D-5287-4443-844F-2044EE21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F127B1-128F-464A-9965-58CDFA24202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