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81560"/>
        <c:axId val="52391575"/>
      </c:barChart>
      <c:catAx>
        <c:axId val="64081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1575"/>
        <c:crosses val="autoZero"/>
        <c:auto val="1"/>
        <c:lblAlgn val="ctr"/>
        <c:lblOffset val="100"/>
        <c:noMultiLvlLbl val="0"/>
      </c:catAx>
      <c:valAx>
        <c:axId val="52391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1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AC3-FC25-413C-8C7E-C2B3FD6C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2B3-8AF8-4FCB-A081-75BF8A6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538-B213-417F-A68B-267FB73F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FE8-24AF-4AD3-B1FA-C9F8207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883-1E76-4C0A-B4E2-6A51C27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574-4A3A-4EAD-9351-C1AC88D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537-BEFB-4FAB-A3D1-2B1A1472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8FC-986F-4D19-BD64-15C1757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BF9-7156-424E-B103-3AE79FA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1CF-B3A0-460C-B617-90F928D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A6-7CF7-4D8E-9E24-91D2872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9BC-48F4-4475-B6F6-99A3C8B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6621F-439A-4EED-B999-A12E451CC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