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213680"/>
        <c:axId val="3326754"/>
      </c:barChart>
      <c:catAx>
        <c:axId val="742136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6754"/>
        <c:crosses val="autoZero"/>
        <c:auto val="1"/>
        <c:lblAlgn val="ctr"/>
        <c:lblOffset val="100"/>
        <c:noMultiLvlLbl val="0"/>
      </c:catAx>
      <c:valAx>
        <c:axId val="33267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136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65E9-E584-4814-982A-02472CD2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EA67-4114-47AF-8B3F-A98B88A2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E235-1ED7-4F8D-A9E8-7BBD8D61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D26F-43BF-4D57-9575-F18F9CA9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5209-176B-4398-B784-8BA7DABE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F275-3C84-4096-A50A-3636820B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485F-515D-4137-A28B-D4D1D128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EB2-FBE2-431C-A1B4-385BC5D9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DF70-D1AE-443A-AF21-B611E5CC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A0E5-CE37-40B8-B610-820192C9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6BD0-D329-4384-8E20-2399D677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DB1B-06C6-45B5-B50B-E5F41AAC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1FF1E-56C5-478A-8DD6-58CFAD5EF1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