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550144"/>
        <c:axId val="64197319"/>
      </c:barChart>
      <c:catAx>
        <c:axId val="625501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197319"/>
        <c:crosses val="autoZero"/>
        <c:auto val="1"/>
        <c:lblAlgn val="ctr"/>
        <c:lblOffset val="100"/>
        <c:noMultiLvlLbl val="0"/>
      </c:catAx>
      <c:valAx>
        <c:axId val="641973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501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70D2-6D83-419A-8380-FB2711423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4665-46B4-478A-AC98-C020487F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7355-8C72-45A7-9E6E-CA508FFCE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243C-ECCC-4A99-A213-DECE3BB45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1683-13C7-41DF-8049-0EBF34AF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9093-4D5C-4562-9022-98D4E460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6A70-393C-467F-A8B7-A1CE3B6F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5EA0-E346-4FF0-BF61-32F0DA1D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8B78-E7B3-40F4-8119-50C8042A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87C8-7010-4DDD-9D6A-CE25A7F3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EC8A-6CB5-4E07-9E3A-6CB62F51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6684-B732-4312-A957-3B2FC314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DBFFD-4648-4C65-AD60-41D59A434C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