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7920" y="47268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47920" y="179856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447920" y="416268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920" y="47268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7920" y="179856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7360" y="179856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47920" y="416268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57360" y="416268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47920" y="47268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47920" y="179856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95560" y="179856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43200" y="179856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447920" y="416268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895560" y="416268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343200" y="416268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47920" y="47268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447920" y="179856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47920" y="47268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447920" y="179856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47920" y="47268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447920" y="179856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57360" y="179856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47268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447920" y="47268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7920" y="47268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47920" y="179856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7360" y="179856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447920" y="416268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920" y="47268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47920" y="179856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7360" y="179856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57360" y="416268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7920" y="47268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47920" y="179856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7360" y="179856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447920" y="416268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47268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920" y="179856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ewltalkchat.com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0666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Presen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1676520" y="2286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KewlTalk Ch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1676520" y="365760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KewlTalkChat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o Software, No Instal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7920" y="47268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 KewlTalk Chat For You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057040" y="179856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atured Rich Ch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-based Control Pan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-vantage Progr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Assist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tomization Eng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47920" y="47268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atured Rich Ch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47920" y="179856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-based control pan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s Very Fast! (~60k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Roo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rators Can Remove Us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size, all shape, all expressions emotic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limited Simultaneous (concurrent) Users Chat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vate conversation between us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Inter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sted On High-Speed™ Serv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 with every forums, blogs, communities, groups and websi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Installation, No Configuration, No Maintenance, No Database, No Plug-in, No Cos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23888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riendly Web-based Control Pa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43000" y="4876560"/>
            <a:ext cx="3200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r Chat is just a ‘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lic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’ away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219320" y="1295280"/>
            <a:ext cx="3174840" cy="3225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4572000" y="1295280"/>
            <a:ext cx="4314960" cy="24177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4572000" y="4114800"/>
            <a:ext cx="4229280" cy="16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239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-vantage</a:t>
            </a:r>
            <a:br>
              <a:rPr sz="4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upports Google Adsense, Revenue Pilot &amp; more…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Ad, Your Mone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600200" y="1676520"/>
            <a:ext cx="6934320" cy="4698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143000" y="1600200"/>
            <a:ext cx="7543800" cy="12193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ty Assist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72200" y="1980720"/>
            <a:ext cx="22096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SS Feed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143000" y="1523880"/>
            <a:ext cx="4038480" cy="2826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572000" y="3352680"/>
            <a:ext cx="4186080" cy="2928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752480" y="5334120"/>
            <a:ext cx="2362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itation Fea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86200" y="5562720"/>
            <a:ext cx="1371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905120" y="40384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05120" y="4876920"/>
            <a:ext cx="2209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ve Announcement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724280" y="2209680"/>
            <a:ext cx="144792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7920" y="45720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ustomization Engine</a:t>
            </a:r>
            <a:br>
              <a:rPr sz="4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You can imagine it, We can design it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295280" y="1752480"/>
            <a:ext cx="1714680" cy="1143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3124080" y="2895480"/>
            <a:ext cx="1714680" cy="1143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5029200" y="4038480"/>
            <a:ext cx="1714680" cy="1143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6934320" y="5181480"/>
            <a:ext cx="1714320" cy="1143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867280" y="2362320"/>
            <a:ext cx="3124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marL="229680" indent="-229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lly Skinabl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724280" y="1752480"/>
            <a:ext cx="3962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9000"/>
          </a:bodyPr>
          <a:p>
            <a:pPr marL="202320" indent="-202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lly Rebrandabl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334120"/>
            <a:ext cx="3962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Chat Built for You By You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4T14:38:15Z</dcterms:created>
  <dc:creator>X</dc:creator>
  <dc:description/>
  <dc:language>en-US</dc:language>
  <cp:lastModifiedBy>X</cp:lastModifiedBy>
  <dcterms:modified xsi:type="dcterms:W3CDTF">2006-06-20T18:08:00Z</dcterms:modified>
  <cp:revision>26</cp:revision>
  <dc:subject/>
  <dc:title>Slide 1</dc:title>
</cp:coreProperties>
</file>