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21958"/>
        <c:axId val="85099867"/>
      </c:barChart>
      <c:catAx>
        <c:axId val="95221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99867"/>
        <c:crosses val="autoZero"/>
        <c:auto val="1"/>
        <c:lblAlgn val="ctr"/>
        <c:lblOffset val="100"/>
        <c:noMultiLvlLbl val="0"/>
      </c:catAx>
      <c:valAx>
        <c:axId val="85099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21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673-C7F1-45D9-9C30-7F469593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619-6CFB-4D9A-B5FC-012E8831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C68-B41D-4C3D-88C5-6FED4B07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AE3-27BA-45EC-8926-B167EFD0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EE3-AEBF-44C8-9DE4-16B37788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095-64D5-4641-BED9-330F725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066-0C1E-4BA1-8C0A-DD37C769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DB8-726B-472B-8F8C-D97490B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CF5-8304-42D5-A318-DD655585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E1E-98B6-4F79-ADDC-DC17141C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F2D-94FF-4DB3-9EF9-3814D873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659-CE0D-4EAF-8ECD-17E66345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F2D04-BC49-4ADA-8DB7-97FD17678B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