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52558"/>
        <c:axId val="34257391"/>
      </c:barChart>
      <c:catAx>
        <c:axId val="85052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7391"/>
        <c:crosses val="autoZero"/>
        <c:auto val="1"/>
        <c:lblAlgn val="ctr"/>
        <c:lblOffset val="100"/>
        <c:noMultiLvlLbl val="0"/>
      </c:catAx>
      <c:valAx>
        <c:axId val="34257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2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F81-C82A-46A6-8496-6207A584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63-3ABF-4276-A333-D5C41FEE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C79-B240-4CC6-A720-0DE8CEA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5FA-BC0B-4AB5-AA74-0B0A5C3E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093-4439-4DC1-AFFD-2463DB7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4A3-2291-4816-9D36-BA01B31C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C7E-B054-46C5-88A5-96EBBAB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8FC-CAE4-4FC8-BF7F-2724328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659-0AAF-48FF-96D8-915A1C4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FD5-DBB0-4572-ACD1-5425C8D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A01-5804-4C4B-8C98-DA2CA2F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B33-DD62-45C4-B741-AA7B683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AD729-0CBC-4ACB-803D-2E10D251A0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