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00914"/>
        <c:axId val="53185819"/>
      </c:barChart>
      <c:catAx>
        <c:axId val="74100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85819"/>
        <c:crosses val="autoZero"/>
        <c:auto val="1"/>
        <c:lblAlgn val="ctr"/>
        <c:lblOffset val="100"/>
        <c:noMultiLvlLbl val="0"/>
      </c:catAx>
      <c:valAx>
        <c:axId val="53185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00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C27-E67C-4D7A-80DD-4E43764E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B2A-FD4B-4C85-8074-28290E22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A29-44EE-403B-959B-BED5D426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ABD-9500-48B6-BC96-793F10DB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5C3-6901-4253-8D1F-4CB6EDDF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D8B-F636-4669-B9B8-7E0359D9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36C-B7C7-481C-83C1-0D909E71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4E5-98B8-48F8-B778-834FE33B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E08-428A-495E-9F7A-9C2E8B3D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1DD-DCF2-43F5-9276-5102BA4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F4D-C1F4-4D8C-A34B-A7D6DA0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A6C-CD5D-4682-94B6-89CE55A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DAD47-FD7B-4B6C-B780-FEFD98BF0E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