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87066"/>
        <c:axId val="75234496"/>
      </c:barChart>
      <c:catAx>
        <c:axId val="58687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34496"/>
        <c:crosses val="autoZero"/>
        <c:auto val="1"/>
        <c:lblAlgn val="ctr"/>
        <c:lblOffset val="100"/>
        <c:noMultiLvlLbl val="0"/>
      </c:catAx>
      <c:valAx>
        <c:axId val="75234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87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766-C97A-47B0-A4C2-CF960D67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154-F65A-414A-A8F4-9C09B16E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5B6-325F-4970-9D57-C473EE57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A56-7E68-4587-B5E5-0CA8DD1C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AFF-0949-4D33-9B59-EF596B83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111-0AF9-416E-892C-C7C2AC8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B43-6853-4885-A581-3CFF7A4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981-1ADC-48D8-A510-C1B878DB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CA0-9847-4645-9EB6-9F26A1E0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FB5-6D08-41E7-993A-C1EB79F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220-2A39-4D59-BF52-2FB849FB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702-3670-4F8B-A91A-D2A7A9B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F8BF0-030C-421D-B11E-46537969F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