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63858"/>
        <c:axId val="33882763"/>
      </c:barChart>
      <c:catAx>
        <c:axId val="30063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82763"/>
        <c:crosses val="autoZero"/>
        <c:auto val="1"/>
        <c:lblAlgn val="ctr"/>
        <c:lblOffset val="100"/>
        <c:noMultiLvlLbl val="0"/>
      </c:catAx>
      <c:valAx>
        <c:axId val="33882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63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056-4402-45A1-9212-7F958E1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1A1-A77C-4E5A-9A4C-42D444A3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249-6656-4A64-95C2-036C90B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BB4-B533-4585-9D14-15F1BE4B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9B8-9638-47EE-AC8C-204ADEA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260-0669-40B7-8907-9E63E428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E79-E6E8-4B2E-B4F0-1C5534C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399-E2FB-456C-A7CF-F3496957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806-09DC-408D-8F11-C30A28E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D16-F8F6-4013-A53D-2632003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F5F-587A-4079-8FEA-B1748FEE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650-2222-4FD8-BF98-008B7F7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11087-C113-4F5E-A561-5F073F5EB2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