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91389"/>
        <c:axId val="71207746"/>
      </c:barChart>
      <c:catAx>
        <c:axId val="95791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07746"/>
        <c:crosses val="autoZero"/>
        <c:auto val="1"/>
        <c:lblAlgn val="ctr"/>
        <c:lblOffset val="100"/>
        <c:noMultiLvlLbl val="0"/>
      </c:catAx>
      <c:valAx>
        <c:axId val="71207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91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9C8-1852-439A-8084-5CEC885D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4BB7-6DEF-4ADC-9999-A9CCC2B2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DF3-D152-4A75-A5E8-DED41383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A99-AB95-4E20-B171-89CDE996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A30-867A-453B-BE95-107E2AF6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70C-3A3A-47EE-BF63-69E7BF1E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9D8-4761-4379-8A8C-13BEE189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69F-3794-4D40-8B70-7B34B110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55F-1A5F-4776-86ED-800B66B8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85B-DE84-48B8-AA71-7A0636BB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6ED-09ED-44A8-BEB7-1A379578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59D3-8276-4D82-A831-142846C7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EAB68-B7C2-4782-939B-E40F70F907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