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360284"/>
        <c:axId val="1774424"/>
      </c:barChart>
      <c:catAx>
        <c:axId val="253602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4424"/>
        <c:crosses val="autoZero"/>
        <c:auto val="1"/>
        <c:lblAlgn val="ctr"/>
        <c:lblOffset val="100"/>
        <c:noMultiLvlLbl val="0"/>
      </c:catAx>
      <c:valAx>
        <c:axId val="17744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602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13CF-FE3B-4064-A925-95D3E91F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0748-5E75-4DAA-9ECD-B00E4486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7665-C65F-4C1D-AB1B-9067BD715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CDB9-1D9B-410C-A2E0-AC6F2BE1B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F0A7-B6B0-4CED-8E84-89675FCC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FEED-6B99-4FE8-AB5C-842F5914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0C66-A0ED-430E-A480-8FC84BF6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DB9D-8278-4374-A214-4DD26996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F21E-3EC3-40FC-A214-C20E76CD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AAB0-54BE-4EE4-B2C8-F37E1948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C185-A24A-492C-B9C8-2519222E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9A95-6F92-4302-82F2-2863BD37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F1183-B7F6-42A7-A8F7-9BDB3D51CD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