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C83-0413-4571-9A4A-8421F80D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224-1553-43A5-8EE8-761C346A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14C05-B608-49FB-8405-F796196B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8644B-680F-409F-AFB0-57E213E1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1EF68-FDC8-4BF4-B1C3-F5CFC38C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0B150-632E-486E-9A6F-D93BD802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3FD9D-1D83-4FA0-8D37-C171907E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3C7BD-1608-4E34-AFD5-C3C98F64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6E236-7386-4BA8-8DB8-BE14C8AD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479A4-CCC9-4BC2-8EBE-6DE1E114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1F4D1-367E-490E-BE3F-00699927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3AD8EA-28FE-49E5-A7B2-844F3600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3CD-CDAC-412F-AC1A-4621FC56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213680-9E3B-449D-989E-5C276FE5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BF69E3-96B7-4C25-A165-44EA018F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2CBEA5-4A1B-4038-BEA3-B0E6AC18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138D46-BC5C-4200-8CAC-7023EA07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CB96FC-4A7B-4A2F-9324-EBCA35ED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959D6E-5B79-4FB6-B3C8-643BB9E2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C2A8CC-6697-4C42-BBC4-E4D39F98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D5D6F8-354A-4159-9648-1082EEA1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8A1CEC-31E4-47D2-ADD1-7DC041B9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25E838-6675-4488-8D71-7FFF9EB6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768-2C7E-4B92-84BD-9DF9FC30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C3DB32-5A15-4C00-AF42-8E2B044D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2E968-15E6-4D05-AA84-C8278D8B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5D663-4C75-468A-8D91-04027267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A6A38-174D-4CA2-8950-31D4767A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E61D9-4392-460B-BE37-5D974048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64A6B-BFC0-4638-96A8-0DC1C78C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D2720-6041-4530-A985-A55037D6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48DC9-FE02-4EE0-ADF2-2F2F2981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65B1F-E407-4312-B2BF-AB902889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E804B-A9A1-48FA-8F84-5A5ECBEF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0A81-4DE4-4D88-AB61-3CC9A682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572E7-5B3B-4993-A47A-C282D878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520EF-262F-4F94-BA27-3414A71F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AC1CE-F9D5-43A4-86BE-F0F7AAA49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889DB-97EC-4894-9EFA-9BA9FD36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6AB85-75C1-4E06-BECF-7A037E03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20EF0-D9E2-490E-9EEE-3A7024EF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25DEE-9B96-4DB9-BB4C-1BD0529A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42665-66DB-4285-B4A9-985CF6FA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4D5C8-04BE-48CF-BE73-5F30A030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3D4F1-84CA-4064-B136-8DAECA2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938F-A55B-4A40-9A1C-DFEE06C2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DAA0E-C541-43E9-9D46-FB142E2D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524AC-EA37-4032-9269-52F07197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2340C-1A87-4B4C-813E-57753930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A206D-9CA2-4039-9152-44F551FF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31EFB-39DA-4931-A6FB-F06DE0AD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8DF9-9D86-4F6C-8447-102F2EC9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F82A-2B63-4D45-8B10-0DC2DE19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0CDE-68EF-43A7-9C84-B58F8E0F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096F-7C78-48CD-AE8E-CC667BF4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3F25-B5D1-4C46-BBE3-15111B6A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634-B7ED-4BD1-B1B4-02B475B9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8DEA-9A94-4D4A-A2FF-F52BC22C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AF0A-9368-4F30-9A59-A24FC09C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17B1-30D8-4531-9AD0-8CA32436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9E3A-D830-471A-B0A8-F8EE2298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4B23-0F54-4EE7-BD64-C9B66C0E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F19CA-0EBF-4CBF-A521-D63F1135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E0C5-58C5-4FA8-A92F-C767D0D9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BD36-2E6D-43D5-8C90-AB89C8FD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DFA7-1745-4653-988E-FA1335AB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844E-E425-4FF8-9948-1148DF12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F0F-A937-4EA0-9FD2-417B9884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35E8-D828-4A77-9D34-AFBFE958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8F9A8-5D57-407D-8D1E-E602F141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33FD-AE89-49C1-9B41-80E30971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5FF8-3F30-46FA-BF40-F0A3FEF6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D9ED2-AF62-49DA-96C1-CA968A74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D791-DDA8-47C4-AE2C-1196D327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DA1E-4186-460C-ADD2-8589C5B1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982BB-1089-45F3-8E06-F39083D9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3E820-251B-4541-A38A-344BBB63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BB056-36D5-4221-A700-E07E06CB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20C-0876-4585-9942-65B11201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2992-615A-4071-ADBB-C5E3970F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44E66-1AEF-4AED-9674-B4DDFF20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56F07-C3AD-4FF5-BF6F-15466048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F8E7-8A87-42A9-AFB9-DD41BC54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AA8F1-FCE2-417E-AD45-9B3C5530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2A1E5-E195-4096-B749-0B7179C3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617DB-9B6F-45FC-B4BB-0FE58220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1B53-DABE-4561-A679-42BD52CF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7761-C473-425E-B5C5-7FC4EA9F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D4473-8F47-4530-AE67-B815B2B2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57B-54C3-47BE-BEDD-A0CF1711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83A13A-5298-4493-A67A-D6BA034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7E3D5-0C82-427F-A06B-70A04B34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67E3B-1F58-4B4A-A69B-662AA984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BEF05-3684-4E36-A7C7-C6B95AD9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5DDF8-2B67-439C-A0CF-EAE3676A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7F4CF-3217-4C5C-98F2-21D78281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0D34D-836A-4E72-A1AA-55883206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40488-8163-4288-B79D-E4B0BA0F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3D816-AA6D-4501-A539-736589AF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927DC-2A22-46B7-AD32-09B6B889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22B-B92C-4BC7-B415-32DB2E14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EAF72-591D-4585-A328-E59DD47C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448E2-941E-42A4-AEE7-298E751B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AD031-4B2A-41F1-BC49-F63DADE8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97B91-8137-42AA-A27F-56A76773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AD726-DDC1-42D4-A99C-44A8BD70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F10AA-460C-45F9-AE40-90A7BCB1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AF510-EAE4-4021-9AE2-CA30BBA4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3F044-0390-4BAD-A4CA-4A966D0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F09AC-8D71-4A54-8833-06ED9B52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E811A-7A63-461B-A7ED-E1BCE111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806-0E03-4A15-A54D-C9076B76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09048-F633-479E-8043-8E0E17A8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CD801-5896-4444-AC9C-A63E829A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AB7CB-F47C-4EA6-BCD6-E993278C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636D7-7EEF-4CDB-A29B-098333D1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139CB-0BD0-4AEE-9AE9-6CA064A4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E3DA5-1BEF-4A50-BC61-1E5AC0B2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AAEC9-A7F9-4C03-88CB-346B21DC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8392D-C085-49B5-B407-20D4964E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97696-0546-4C86-A55A-83E87367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357C2-1602-44EE-A21D-15F7E78A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A9E-4F81-446F-BF3E-1197908C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04F50-367E-484C-AA40-81A59652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51711-1D37-4CBD-AE04-1E8662A7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A532B-D84B-4241-9A61-9590705A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3EDF5-115A-45CA-9E7E-C1810664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3481D-3C64-4BF8-A523-ABBB8D2F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83F83-EC93-4DB8-AE0D-A2943ACD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91898-215A-4BCE-A03B-7A49DA8E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7CF3A-8F02-453F-94C0-057E0999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FB05A-ABE2-47F5-B19A-20DD1E36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DF79A-549B-49C6-B3C8-90EA979A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5A3-34CC-4E94-8559-72B3D8A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B626A-64C7-4883-9C1A-8ED4B122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81E16-A805-45C8-986C-5071D3B5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280D0-5716-463D-95A5-1C0D6D24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CB2CF-8711-4DF5-9644-C6C6DE3D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D0AC9-A4CB-4699-9CF4-461F4BE1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186DF-9341-40A5-848E-C5633921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D5E0E-D9DD-427F-BBFC-AADC8617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43239-ECC0-408D-95B9-E3E8987C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DA35D-B549-4938-A923-D7165489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E9537-C379-48AE-B290-8DF710F0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7B99-C714-4A52-82B0-D9011861C19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8000-0758-4DB7-925B-6EE7B92344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F38F-1A96-4656-965F-D6ED317D5FE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0747-EFEA-4104-AE6F-1EB1BC9B6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4CBB-BE3E-44B9-8E8E-1820B016EA6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DA5D-E57F-4450-A7D6-A06EA0FEE2F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0489-F6AB-43BA-AB52-06165AD5381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2CC7-2D6A-4832-8C12-F3647C568F9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969E-C3C5-4DE6-8825-9958FC857F2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88FA-0B83-4ED7-980B-9C87EA9884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C173-C8E7-44E9-AB54-779B5F2C2C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C55E-6E3C-4EFB-A918-141C9AA91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A7B7-9CF7-48BC-A522-3DD054B64B5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C0D5-173C-4344-9E5E-707E35A68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51B2-A56B-4E24-AB14-87DD55B1397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A68A-4F84-4DFE-BB51-960A4291A0C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3EC9-6587-404E-899C-F5D42330A45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5ED4-8CE4-48C4-933F-E79FA677F4B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F7E6-39ED-4C26-9685-533E3F82D5B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5B4C-C0AE-4073-9D69-AFC0B63162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B8AF-0DAA-40CE-B616-90E9CB69959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1712-B7AD-4FFC-984D-CF56D33D35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147C-89C9-4A79-9E53-A0B750F3BFD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DC70-B8FE-4DFD-987E-AADB2B543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D4F-6CF5-4959-8ABB-98BB43C207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31320-64E8-48B0-9F04-82F948B6F8D5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4F0A4-A865-4B18-80CD-E65E78F98F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71FC246-2F2F-40A5-ABE2-89700A467B88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20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6519-180B-495E-BE28-695BD41F98A5}" type="slidenum">
              <a:t>3</a:t>
            </a:fld>
          </a:p>
        </p:txBody>
      </p:sp>
    </p:spTree>
  </p:cSld>
  <p:transition>
    <p:comb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83B63-64EB-44B4-8902-10EE672B5EA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8B36E0B-AF8C-44DA-9898-BFF4AB7C52E9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7CFBF-7DA1-4DFA-A4AD-BA45D295FA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912697C6-AD73-4292-A026-1B50950D96D4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2800A-BCD5-4435-A0D6-C34FCA88EC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F1B7C2B-4CFE-4704-B7DC-49732A912971}" type="datetime1">
              <a:rPr lang="en-US"/>
              <a:t>07/28/26</a:t>
            </a:fld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