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174516"/>
        <c:axId val="44768603"/>
      </c:barChart>
      <c:catAx>
        <c:axId val="911745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68603"/>
        <c:crosses val="autoZero"/>
        <c:auto val="1"/>
        <c:lblAlgn val="ctr"/>
        <c:lblOffset val="100"/>
        <c:noMultiLvlLbl val="0"/>
      </c:catAx>
      <c:valAx>
        <c:axId val="447686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745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BB96-E8A8-4E4B-91B1-BBA1C85B0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F6DD-04DF-4D1E-B054-870BF18F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5C99-40B7-4DBF-B25E-F15F42EB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DFA8-CB00-4B2E-A736-6BBB9E7F0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4E57-4517-4633-950E-A1FA8F7E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BBFD-D9A2-4A0A-82D0-D12F5A10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3D50-C084-4231-9740-7E0AB245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1C28-C37B-44B4-A5F7-4A14032F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B464-E790-4931-B907-BB4A6B87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164E-9277-46C0-9D7E-3E0239F9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ACF4-6FDE-46AB-89C4-11B07B12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6703-8373-44E3-893C-64A8DFA8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5E87C-FDBA-4428-99C2-16A54E1B20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